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9.jpeg" ContentType="image/jpeg"/>
  <Override PartName="/ppt/media/image11.jpeg" ContentType="image/jpeg"/>
  <Override PartName="/ppt/media/image14.jpeg" ContentType="image/jpe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DC4A-485F-4769-AA2B-776D2FA29C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16B9-4A1A-4F0E-B54B-97BFD624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3AF012-D497-44AD-91D6-A451B3AB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0E9155-BC2A-4320-BC19-6A5BD01C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219495-E5F0-4ED1-ADA7-49D87AFC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E4B5E9-B156-496E-A726-417765D0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88696D-1CF6-4906-8DD0-8706E8D1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4925FE-E019-482D-90E1-FDE2C4F0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932D7A-0244-4601-BBEC-58F2F7FC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147AE7-5300-4731-9239-036EDF2C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D92396-C2A0-49F2-B97D-BD87191588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5FF7B-CE4D-4587-B819-55E56DA055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BE36-1012-446D-8703-F007C3C0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377A5-A728-4710-A0B2-0462CC0E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2DE33-81B9-4699-AD0A-A3B2AEDC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B5643-391C-4621-8270-3F12D901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39E05-84EF-4DC3-B1CC-0F809824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972DE-9255-43DA-B01B-B9BDF182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2B95F-4F73-4CAF-B45F-DCA2E079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CBC0-EB46-4CFC-B47F-A8549AC4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73F25-213D-4EF1-8C3C-0AE5CC43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A0509-79A7-4A7F-BFF5-348D4B39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3F8A4-6BAE-4393-9B3B-16131D49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7CCF-A2F4-4248-A6E8-A9666E6C7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7A3AF-B06D-45D0-B39F-B10900B53A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F44ED7-CF72-4271-A1CB-3F50864D43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B4792-DB34-441B-B94B-BF8AD328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784F2-2C8D-4BF9-B82D-5BAC137F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F1F212-73BC-4643-8ABF-00D0A613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FCE8C-778C-4E65-B934-4AB7FA0B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3423AA-C124-402F-80A7-63CCDDA7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A3E17F-2D17-49F2-B847-13B9FD64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5B05B1-4D47-4271-9F39-8EFF72FA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32DA1-B7B0-46B8-A7AC-01821665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D7B4A-D626-4ADA-8AB6-DC07D26E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1AD83A-0636-4393-886E-B75F0502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088FBD-8352-4C14-BBFE-BAD32536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3957C7-B08B-4D4C-B7ED-83280690ED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229B0-2FE5-464B-A524-2A1E330B0C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557E7-82BB-4961-BB67-E0EA3749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4DDE3-FA75-41D5-AD6D-0EBD3AA7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05787-1C39-49F9-A0C1-76DBADD7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CA2FD-0B2D-4309-ABC1-AA8E42B6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A8C9B-C193-4DA7-A138-89A1FC86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9CEAA-1E4A-4ADC-B534-4F806FE1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E0673-F325-4BEF-BDDF-A709CCCE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FB7A4-ADA1-4575-88C6-3CD5DEF6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A85DC-E1A1-4BE8-916B-E4647F30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E8C00-38E7-44A6-9B05-816E17C3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E52EC-4E89-452C-86D9-E938C55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D8E94-B7D6-4ABD-8B51-3489991785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6EC28-6C94-4592-BAC3-FC9051FB32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AA8CA-1F10-4A8F-A761-89726AF4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D9A80-CC52-40E3-9C22-C0306619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3C64E-5F74-4A44-83DB-5E5522D3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3D110-0C11-4CCD-9A03-28A4AAC0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FF0AA-F1D5-4212-A14A-70B46E76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5E9A0-7E7F-4CFB-81D8-7720FE02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AC98E-921C-4BFC-91CE-6575E02E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E8EA6-129F-4BF4-A6C8-616381F8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A5911-8457-4BA8-970F-2E863961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D9EBC-B811-4679-A3AF-9FBE3A7A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E1334-69BF-4C5E-920D-9D32F330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BA9AB-F1C7-4D72-ABF6-4B5F7CAED8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D8DBD-C74D-4F13-BDE1-C78CD46F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5C426-5F63-4710-99E5-C9AAA3DF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F1057-4085-42E2-ACEF-3B1F10D0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EA055-2E35-4BE5-B1A7-A3F5B881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A6BBD-322C-466E-94D8-A5A5EC5B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7FF12-9DE8-444A-8A6E-918F9F76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2FC0B-51ED-46BF-9328-489BB611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6263C-40F7-4D6E-9BF1-7C9BB2CE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050E9-FC4D-4398-BCBF-946FB15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E469B-8B47-4B87-96A7-B71AB662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1BA11-FC59-4F62-B83E-D0F7BC99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2D693-6EAA-4E64-80BB-50EE43A5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8A7D6-3BD7-40A3-B38F-452B72A4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C68E8-97C8-4286-A7F7-0938ED37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8F82D-6B79-4CC2-802E-D9EB103C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2EA96-7FBF-43C2-A379-98DB77C6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D5AB9-9462-4EDD-959B-9522C6AE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F251F-B906-4301-8560-20E85940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2C3FE-3A3D-4AAB-ADC2-7C1A8D81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25176-E091-4A53-8AFD-558F282C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1C951-7970-4B97-9F4C-ABA7F574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A335B-9444-4B8F-BC9F-DAD25085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5CF03-FED0-498D-8B5C-084BD73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F4FAB-9D3C-41EC-8262-EC639F8A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EAB35-B676-4691-B779-7FF6B101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45781-44DB-4D74-BFEE-7FCCC730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586CD-ED61-49A6-B353-61D84FFD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0CA72-0F42-4072-8C9C-D3DD9E9B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42F65-6228-43EE-BF87-976E1E71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C0892-7D64-4B26-95F0-85CF86FD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D129D-E7BB-4D64-8818-84E2C9BC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CD330-1954-48B3-9617-01BE9982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8E8CA-44AD-4122-A8B3-DD38372A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A6DA7-B96A-4BB3-8265-2B5960DF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01D0F-2E43-42CF-81C1-27CC0F9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67A9E-6443-42E0-A7B3-F4A587B3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1380C-DE32-48DE-BD4E-3CDC8685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50FBD-5EE4-4359-B2CA-6ECEFFC3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46FF4-44B9-4B38-BC61-DD932F83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3748B-73D1-4A16-9854-894EA017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5832B-7023-407F-B750-07F3B53D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6B48E-626D-450B-9D01-B8715F57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74034-4661-46F4-BFD5-109A8F91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84837-45E8-44CC-B29A-0CCE9E71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1A427-2140-4BED-A9F4-E3E4A00D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6C917-F34A-4A35-A296-B42E4914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21783-AA94-42FB-9700-61ACFC8B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AE41-C558-4DEA-91F7-29373C07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D923F-D402-4719-A579-58BE9952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244D6-1831-4ADC-B3F1-921B2BD9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3FE75-F136-4336-9134-01141C32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94B3B-49CA-4297-94F4-44995F0A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2FC27-80DF-4C0D-85B6-F88150DF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09222-8015-47D1-8191-1FAE00D1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24C60-22E0-46F7-BA7E-6C9217F7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D75E3-FDAC-42ED-BC84-5CB3B628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112F6-CE65-4D54-BB73-6E10F899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A1773-F9E8-4273-888A-2FC770B0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4F76D-FDD6-4971-9F34-2B9A76C8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592EC-F95B-45EF-A1C5-4EA9801A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1F76D-6266-48B2-91B4-819388D8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F7089-C872-4620-BE23-9CC5B53D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712C9-A023-4FC1-8768-3C2CCE8F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C62F7-4816-492D-8491-AB2B5426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9715D-63EA-4AD9-8BAD-7E9D2697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A2DF7-6C8D-47D2-A63B-957A7DD3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0C2B5-E54A-46AE-A56C-0ECB30DD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7F5DA-C55C-44E4-8362-16B5379D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80554-B1B8-4465-AE13-2828E35B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AD89A-FA0B-4DB2-8A92-05479288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487B3-BEDE-4A82-AD91-03346FFC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FD39AB-D332-4108-99CB-A6189864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274AD-86BB-40A5-9F89-305E1D02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219AB-7548-4C31-96EE-36FF4A1D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9EAF8-2130-4A1E-B4AD-6AC4B7C6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573C37-CB65-4796-AAF9-C129F6D5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40F09-C5B1-49E3-AC09-E4F35CDF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31A64-2C7E-435E-84CB-59B8F9F9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F4F6C-E579-464E-8CA5-7B612CA5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BDCC5-368C-459F-B33C-4B3EFC23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23D9C-7F42-44BA-93A7-D4FD1223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AFFCD-33AE-4699-8A5F-DEF9EF1B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F8C80-530D-4D1A-B279-5537DF0A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82EB2-5F54-4258-B785-90D07812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EEC5F-CFE7-488D-91AA-FB0BA163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CC93E-5ADB-46D4-9C59-92BD8DAF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693E6-D8D1-4678-9E86-E3C03FC9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1A253-060A-4845-B17D-3C378C45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F1626F-8E33-4F3E-A96E-405C7244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7A39F-1AC0-4203-953F-A403281B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7CF0E-0A2B-41CA-907E-D7B2E246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4B4E9-6EC7-4622-96D0-E4C67DEC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20B99-73A0-4162-9586-296BA2CD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940A05-8FD7-4BF6-A099-C7AAE710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6BD73-F450-4931-9F0D-F4AA2487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AD4FAB-1170-4D73-9DA3-D1575E47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3F95F-78C3-4CFE-8BB0-8CBBC61A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0D251-481A-4EFA-B2BE-8E1996E0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2FF2C-999A-4F31-B0D0-A532FEF4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01809-AEAA-448E-8201-5D05D1C7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C5271-E862-425B-9AE9-73C6C64E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0C29B6-6696-4201-8CE9-0DD236C7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E9E75-7E64-4285-BD08-E232F617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1CC729-66FC-4ACE-870E-8B431FCC88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29E5A-8692-46BB-96C2-DBB5238D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4C15B2-2843-40D4-8BAA-C78318C3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B28BF-358A-4E26-88BD-220CF4DA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5622F-790F-4EFB-8ABC-18614F54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C455B-0892-4EF1-BF6C-C218ACBE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E7CEE-7339-4252-A424-CC2E98E1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8A6B96-AEB5-4245-A9C7-B929BD92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DD6F2E-F2C1-4F06-AB73-CCB6C1FF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82FD5-0711-4F42-8C2C-12ECFCA3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05108-5D9A-4E9A-A536-6374434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04B7F-D7C0-4C87-B620-11F7C79A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219D4-5758-4DC4-A921-D53B1B15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1B1BF-5400-4211-8A12-56712486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23A6F-EA65-47A7-8BFC-A8FC978D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122FE-B57F-4478-A4CC-5FE17773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90383A-1B04-4914-843B-F752000E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FC82E-314E-4386-964F-30271582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631FB7-A02F-4360-BCD3-63987CBD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4B674-704F-401E-91C0-5BF7B5C9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E1DDE6-246B-4778-BB88-CE594C8A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6953EB-A985-49BA-BC88-97CBBF73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34FF6-284C-4887-AE51-071C0AC4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574AAE-1AC5-4728-9CD6-EB975214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C82FEE-4D8F-4BC0-B6B9-4C99E84E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F3187-1423-440D-A98D-DF559AF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466A9C-9E2E-46C4-BD70-017C0333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025BB7-60DC-48C9-92E5-9198D58C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589019-18A3-4821-AFD9-EB3087DB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6FB5CF-AFEB-4193-ACF3-83C4C462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F835EA-BB55-4E25-B9E2-EFB8A90E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F4D14D-81C0-4622-9FC5-5986BA47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9EB1F6-C149-4B37-A0BD-EB73C548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338104-C6FF-43A2-B38C-546E6B71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9E6D4-0488-4F12-8CF4-8AEDD186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B2C5B-9870-4D49-AAC8-A0B901F8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28E6D-45D0-4DA0-BAC3-75995F8F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C826D-5E92-4070-B0A0-F59D9AD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EE638A-190E-4011-8F1F-CF6533CB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D38854-27E3-4BB9-A83C-8323D3F3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C1A6DD-EFD9-40FE-AD66-C926E08C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8B0980-6EDE-436E-B5C4-F22D756D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B9D74-BC2C-47D5-81DA-7DBD4A7B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6EAB3-D04B-4AC5-A2E1-0F4F1D45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5F6C-4E54-42D0-BDA4-1169F899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226E8-2178-427F-B6AC-E141BB9F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A235C1-C162-415C-8AFE-970D4F8A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333A4-1871-4FA0-86DD-1F567A25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F761F-FC53-400A-BB73-9EB34D66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7C1E4-E5CB-45F4-B0AD-9155308C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F8E1D-794C-4910-ADF2-45794D84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CEE0A2-8007-4EB6-85A6-E1943E7867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7154-EEF6-4DC1-BAB0-824D660B69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ABB5-906C-42C9-BB7D-69CB7328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5124-8DC0-450A-9509-12C043D2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4886-2CE8-4F9E-AC4C-DCB6807B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538B-AD89-4052-9555-77B5A7E1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54F1F-5EEA-47D6-BF1D-0D681FAD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8397-0B4A-4989-A54B-7BEB400C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90C0-2E7B-47E6-87F2-9912099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9FB43-EE9B-4FAB-9087-52EE9870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2D40-C9FC-448E-9E26-44474907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DAEF-D20D-4B0A-AD38-B4614372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6411-60A1-4EDA-A17B-874AC656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0220-0782-4227-B5E9-CE2D476710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05479A-BAF0-4096-A811-03FB7E17E3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EC29-B811-415E-9AC6-B2284BB3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F1503-4503-4616-AF17-FF7AB3C5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76506-4665-440B-82C6-A2032FC3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87E6F-E02D-4F0F-8B79-E061363E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0E620-0337-4E28-8CC3-71D80348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A755A8-76BA-4270-AC5E-CFFBA1B5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832A6-0135-4332-9366-E4738DDA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329B2-6C25-43B5-B56C-EB34A316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F1C5D5-23B5-49BB-A933-B098F03F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23C5E-A35D-4783-B09F-EA184FEB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A0E0B-9C16-4947-B918-C407F7C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89464-3003-41F9-9A33-B7C16474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A2B1A-8BC5-49F2-AF18-62FF6263BF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B018F-0BFD-47B1-8733-CD4E2EB837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EB4A68-E477-4141-A863-B596077D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52F6FD-E3DE-4F73-AFD7-F35003A6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E8AE4F-AB74-401C-9724-245EE1D5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9EB43F-2BEF-47B7-A92C-E00EA86C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605730-BB60-487B-B190-397F0B66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413DF3-2913-49EF-97D2-1A2741A5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E8DD4B-73F1-4860-9FF8-EB3336C8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035C82-A542-4389-8D57-7D0B0319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BF7B-12AB-43A5-942F-A3493368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8B6474-2163-41EB-9997-C79E269E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9B98F2-1DD3-4E2D-AD2A-425609A3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8127B7-C856-4D2E-B94E-6EC5BF0788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85C52-AF2F-41EA-A0B1-5133BD9AE2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342E1-60B7-4778-8CC0-9801966A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32E37-FDC5-4DA1-BD74-E08917A9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1F632-93EC-492C-82D7-EC2826F2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305E9-22E7-468E-9ABE-2C4420ED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A1C93-627E-4579-89C8-117DA182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12208-D83C-4841-A87E-8381483A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90FA2-F1BD-4CAE-B597-7CFA6F65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79FB6-EF7D-4D1B-B5C9-6FD335EE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9B59-09AD-40F7-B823-3923CA1F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69512-3806-4E43-A430-526DCE46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5F8B-3D14-4ED2-9311-171D763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E9F76-90F4-4FB6-895C-DEA536D0E4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1D86C-B6F3-45BB-8E9D-CD355E2A75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E121F-A9D6-4735-A287-5DEC5D0C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6188B-45C7-4262-B888-B0FDAEF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8D3B4-02CC-46F5-9B85-A3FDE66F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9FFCE-B15E-40E1-BA35-1AB3EE5B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61E0-CE22-4FCD-B148-DDB52377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5AD6F-E2F9-467C-AEAC-C8C4CBBB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37C89-6C91-4225-B94B-EAD533C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2BB12-37F7-4BDE-AB77-8B621BED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33BF0-2311-4C1D-9C54-2BCF0C49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B58C0-DE1E-4A55-9475-F6D1613B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F56B6-D225-4489-87E1-3341474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0ACCE-4E67-47DB-B8CF-9EABAC8FAC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926838-88D3-4DBB-B3B4-EFCB23BFC7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FD93B5-A86A-4484-A9FE-6D56D567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39AC0C-A279-43B8-95B9-2664C1C3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2BBE-10D6-4381-841F-39DC0E36B9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2D95-88FC-4EB2-9B10-C8A7D334D0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8588-C667-40CA-AE22-81EF11F729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374A-2DD9-4553-9F17-9D43CB9E80E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EC80-1D0B-451D-9ABC-9EA41D6AE22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0286-9569-4822-8CE3-9398F0CE66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4428-DBEE-4C40-93C3-E1F7704B8A4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23C3-957C-4EF2-8A02-BC62F87249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D211-0427-403C-8DF4-5F06095C375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2B19-5D58-424B-ADC2-13CFECF1E34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3B4C-AB79-4210-97FD-F6A55072480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0D08-0FB8-4428-BF00-35D7B799877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14E5-6667-4193-B8EA-AB0F0C0B5EB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DDCB-315C-4E3D-93CB-B34CAC14FB2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0C16-A5CE-40FB-A821-408A3F362F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9FCE-3F52-45C0-B291-1430E225FF8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111F-8B8F-49EB-8984-EF9575C3BBD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53C0-E3CA-4299-865F-5E1938DB53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FB0C-5291-460C-9AED-8F053955C24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EF7B-8779-454A-9A13-CF8581A4E3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6430-66ED-4891-8F38-99B13B9DA5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2B11-1354-456F-9466-7DED2BE9CA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0DF8-211B-49DA-9E60-1A90DDD990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4566-1721-44EA-B049-1F6195BEB5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image" Target="../media/image38.png"/><Relationship Id="rId4" Type="http://schemas.openxmlformats.org/officeDocument/2006/relationships/image" Target="../media/image29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868480" y="270360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2327400" y="2652840"/>
            <a:ext cx="604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 习 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8000"/>
            <a:ext cx="3449520" cy="360"/>
            <a:chOff x="2284560" y="2448000"/>
            <a:chExt cx="3449520" cy="360"/>
          </a:xfrm>
        </p:grpSpPr>
        <p:sp>
          <p:nvSpPr>
            <p:cNvPr id="989" name="Line 10"/>
            <p:cNvSpPr/>
            <p:nvPr/>
          </p:nvSpPr>
          <p:spPr>
            <a:xfrm>
              <a:off x="2284560" y="2448000"/>
              <a:ext cx="34495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48000"/>
              <a:ext cx="344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231840" y="174456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 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73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75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6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7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8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1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2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3" name="TextBox 19"/>
          <p:cNvSpPr/>
          <p:nvPr/>
        </p:nvSpPr>
        <p:spPr>
          <a:xfrm>
            <a:off x="279360" y="793800"/>
            <a:ext cx="892800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. 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千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）米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3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）千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0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千米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千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千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20"/>
          <p:cNvSpPr/>
          <p:nvPr/>
        </p:nvSpPr>
        <p:spPr>
          <a:xfrm>
            <a:off x="2101680" y="876240"/>
            <a:ext cx="11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21"/>
          <p:cNvSpPr/>
          <p:nvPr/>
        </p:nvSpPr>
        <p:spPr>
          <a:xfrm>
            <a:off x="2887560" y="1519200"/>
            <a:ext cx="11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22"/>
          <p:cNvSpPr/>
          <p:nvPr/>
        </p:nvSpPr>
        <p:spPr>
          <a:xfrm>
            <a:off x="2351160" y="246528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23"/>
          <p:cNvSpPr/>
          <p:nvPr/>
        </p:nvSpPr>
        <p:spPr>
          <a:xfrm>
            <a:off x="2994120" y="3214800"/>
            <a:ext cx="9284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Box 2"/>
          <p:cNvSpPr/>
          <p:nvPr/>
        </p:nvSpPr>
        <p:spPr>
          <a:xfrm>
            <a:off x="71280" y="857160"/>
            <a:ext cx="90727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面的说法正确吗？正确的画“√”，错误的画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字典厚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毫米。                          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毛巾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。                           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黑板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分米。                          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小红家距奶奶家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千米，她最好步行去。    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矩形 3"/>
          <p:cNvSpPr/>
          <p:nvPr/>
        </p:nvSpPr>
        <p:spPr>
          <a:xfrm>
            <a:off x="7985520" y="1989000"/>
            <a:ext cx="38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矩形 4"/>
          <p:cNvSpPr/>
          <p:nvPr/>
        </p:nvSpPr>
        <p:spPr>
          <a:xfrm>
            <a:off x="7995960" y="26002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矩形 5"/>
          <p:cNvSpPr/>
          <p:nvPr/>
        </p:nvSpPr>
        <p:spPr>
          <a:xfrm>
            <a:off x="7985520" y="3189240"/>
            <a:ext cx="38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矩形 6"/>
          <p:cNvSpPr/>
          <p:nvPr/>
        </p:nvSpPr>
        <p:spPr>
          <a:xfrm>
            <a:off x="7995960" y="37846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4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5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96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7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8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9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0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文本框 8"/>
          <p:cNvSpPr/>
          <p:nvPr/>
        </p:nvSpPr>
        <p:spPr>
          <a:xfrm>
            <a:off x="692280" y="928800"/>
            <a:ext cx="81468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一连，小朋友选择哪种交通工具比较合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图片 10" descr="_4`F[E$PX4I}_~SSZVJ7V4J"/>
          <p:cNvPicPr/>
          <p:nvPr/>
        </p:nvPicPr>
        <p:blipFill>
          <a:blip r:embed="rId1"/>
          <a:stretch/>
        </p:blipFill>
        <p:spPr>
          <a:xfrm flipH="1">
            <a:off x="533160" y="1679400"/>
            <a:ext cx="812520" cy="1233720"/>
          </a:xfrm>
          <a:prstGeom prst="rect">
            <a:avLst/>
          </a:prstGeom>
          <a:ln w="0">
            <a:noFill/>
          </a:ln>
        </p:spPr>
      </p:pic>
      <p:pic>
        <p:nvPicPr>
          <p:cNvPr id="1206" name="图片 11" descr="]@P`{@U$K{A7A$9804YYMFT"/>
          <p:cNvPicPr/>
          <p:nvPr/>
        </p:nvPicPr>
        <p:blipFill>
          <a:blip r:embed="rId2"/>
          <a:stretch/>
        </p:blipFill>
        <p:spPr>
          <a:xfrm>
            <a:off x="441360" y="3238560"/>
            <a:ext cx="958680" cy="1220760"/>
          </a:xfrm>
          <a:prstGeom prst="rect">
            <a:avLst/>
          </a:prstGeom>
          <a:ln w="0">
            <a:noFill/>
          </a:ln>
        </p:spPr>
      </p:pic>
      <p:pic>
        <p:nvPicPr>
          <p:cNvPr id="1207" name="图片 12" descr="2H}X(L(]QYGI)}W9D5VJEGS"/>
          <p:cNvPicPr/>
          <p:nvPr/>
        </p:nvPicPr>
        <p:blipFill>
          <a:blip r:embed="rId3"/>
          <a:stretch/>
        </p:blipFill>
        <p:spPr>
          <a:xfrm>
            <a:off x="514440" y="4700520"/>
            <a:ext cx="1012680" cy="1384200"/>
          </a:xfrm>
          <a:prstGeom prst="rect">
            <a:avLst/>
          </a:prstGeom>
          <a:ln w="0">
            <a:noFill/>
          </a:ln>
        </p:spPr>
      </p:pic>
      <p:pic>
        <p:nvPicPr>
          <p:cNvPr id="1208" name="图片 13" descr="R6PEPN8X6D$W%S4WDXFKZF2"/>
          <p:cNvPicPr/>
          <p:nvPr/>
        </p:nvPicPr>
        <p:blipFill>
          <a:blip r:embed="rId4"/>
          <a:stretch/>
        </p:blipFill>
        <p:spPr>
          <a:xfrm flipH="1" rot="5400000">
            <a:off x="1928520" y="969480"/>
            <a:ext cx="1454040" cy="2431800"/>
          </a:xfrm>
          <a:prstGeom prst="rect">
            <a:avLst/>
          </a:prstGeom>
          <a:ln w="0">
            <a:noFill/>
          </a:ln>
        </p:spPr>
      </p:pic>
      <p:pic>
        <p:nvPicPr>
          <p:cNvPr id="1209" name="图片 14" descr="R6PEPN8X6D$W%S4WDXFKZF2"/>
          <p:cNvPicPr/>
          <p:nvPr/>
        </p:nvPicPr>
        <p:blipFill>
          <a:blip r:embed="rId5"/>
          <a:stretch/>
        </p:blipFill>
        <p:spPr>
          <a:xfrm flipH="1" rot="5400000">
            <a:off x="2104920" y="2339640"/>
            <a:ext cx="1454040" cy="2784240"/>
          </a:xfrm>
          <a:prstGeom prst="rect">
            <a:avLst/>
          </a:prstGeom>
          <a:ln w="0">
            <a:noFill/>
          </a:ln>
        </p:spPr>
      </p:pic>
      <p:pic>
        <p:nvPicPr>
          <p:cNvPr id="1210" name="图片 15" descr="R6PEPN8X6D$W%S4WDXFKZF2"/>
          <p:cNvPicPr/>
          <p:nvPr/>
        </p:nvPicPr>
        <p:blipFill>
          <a:blip r:embed="rId6"/>
          <a:stretch/>
        </p:blipFill>
        <p:spPr>
          <a:xfrm flipH="1" rot="5400000">
            <a:off x="1956960" y="4107960"/>
            <a:ext cx="1454040" cy="2568600"/>
          </a:xfrm>
          <a:prstGeom prst="rect">
            <a:avLst/>
          </a:prstGeom>
          <a:ln w="0">
            <a:noFill/>
          </a:ln>
        </p:spPr>
      </p:pic>
      <p:sp>
        <p:nvSpPr>
          <p:cNvPr id="1211" name="文本框 16"/>
          <p:cNvSpPr/>
          <p:nvPr/>
        </p:nvSpPr>
        <p:spPr>
          <a:xfrm>
            <a:off x="1854360" y="1511280"/>
            <a:ext cx="187956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周六，我要和妈妈去离我家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千米的人民公园划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17"/>
          <p:cNvSpPr/>
          <p:nvPr/>
        </p:nvSpPr>
        <p:spPr>
          <a:xfrm>
            <a:off x="2101680" y="3005280"/>
            <a:ext cx="18669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今年春节，爸爸、妈妈要带我去离我家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千米的奶奶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18"/>
          <p:cNvSpPr/>
          <p:nvPr/>
        </p:nvSpPr>
        <p:spPr>
          <a:xfrm>
            <a:off x="1913040" y="4713120"/>
            <a:ext cx="195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国庆节放长假，我们全家要去泰国旅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图片 19" descr="OPMNY%U9NMRTTQB$3@0T7LB"/>
          <p:cNvPicPr/>
          <p:nvPr/>
        </p:nvPicPr>
        <p:blipFill>
          <a:blip r:embed="rId7"/>
          <a:stretch/>
        </p:blipFill>
        <p:spPr>
          <a:xfrm flipH="1">
            <a:off x="6172200" y="1627200"/>
            <a:ext cx="2301840" cy="1116000"/>
          </a:xfrm>
          <a:prstGeom prst="rect">
            <a:avLst/>
          </a:prstGeom>
          <a:ln w="0">
            <a:noFill/>
          </a:ln>
        </p:spPr>
      </p:pic>
      <p:pic>
        <p:nvPicPr>
          <p:cNvPr id="1215" name="图片 20" descr="D[K@`3I85QU3J3$(LL@_SHH"/>
          <p:cNvPicPr/>
          <p:nvPr/>
        </p:nvPicPr>
        <p:blipFill>
          <a:blip r:embed="rId8"/>
          <a:stretch/>
        </p:blipFill>
        <p:spPr>
          <a:xfrm>
            <a:off x="6445080" y="3157560"/>
            <a:ext cx="2449800" cy="981000"/>
          </a:xfrm>
          <a:prstGeom prst="rect">
            <a:avLst/>
          </a:prstGeom>
          <a:ln w="0">
            <a:noFill/>
          </a:ln>
        </p:spPr>
      </p:pic>
      <p:pic>
        <p:nvPicPr>
          <p:cNvPr id="1216" name="图片 21" descr="%1K1_V$166EDZHF4WQMRWXG"/>
          <p:cNvPicPr/>
          <p:nvPr/>
        </p:nvPicPr>
        <p:blipFill>
          <a:blip r:embed="rId9"/>
          <a:stretch/>
        </p:blipFill>
        <p:spPr>
          <a:xfrm>
            <a:off x="6524640" y="4665600"/>
            <a:ext cx="2138400" cy="1047960"/>
          </a:xfrm>
          <a:prstGeom prst="rect">
            <a:avLst/>
          </a:prstGeom>
          <a:ln w="0">
            <a:noFill/>
          </a:ln>
        </p:spPr>
      </p:pic>
      <p:sp>
        <p:nvSpPr>
          <p:cNvPr id="1217" name="直接连接符 22"/>
          <p:cNvSpPr/>
          <p:nvPr/>
        </p:nvSpPr>
        <p:spPr>
          <a:xfrm>
            <a:off x="4257720" y="2149560"/>
            <a:ext cx="2266920" cy="3039840"/>
          </a:xfrm>
          <a:prstGeom prst="line">
            <a:avLst/>
          </a:prstGeom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直接连接符 23"/>
          <p:cNvSpPr/>
          <p:nvPr/>
        </p:nvSpPr>
        <p:spPr>
          <a:xfrm flipV="1">
            <a:off x="4406760" y="2349000"/>
            <a:ext cx="1893960" cy="1514520"/>
          </a:xfrm>
          <a:prstGeom prst="line">
            <a:avLst/>
          </a:prstGeom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直接连接符 24"/>
          <p:cNvSpPr/>
          <p:nvPr/>
        </p:nvSpPr>
        <p:spPr>
          <a:xfrm flipV="1">
            <a:off x="4246560" y="3933360"/>
            <a:ext cx="2125800" cy="1528920"/>
          </a:xfrm>
          <a:prstGeom prst="line">
            <a:avLst/>
          </a:prstGeom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3"/>
          <p:cNvSpPr/>
          <p:nvPr/>
        </p:nvSpPr>
        <p:spPr>
          <a:xfrm>
            <a:off x="100080" y="779400"/>
            <a:ext cx="680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2" name="圆角矩形 15" descr=""/>
            <p:cNvPicPr/>
            <p:nvPr/>
          </p:nvPicPr>
          <p:blipFill>
            <a:blip r:embed="rId10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24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5" name="椭圆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6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7" name="椭圆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8" name="圆角矩形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圆角矩形 21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0" name="圆角矩形 22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圆角矩形 23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文本框 8"/>
          <p:cNvSpPr/>
          <p:nvPr/>
        </p:nvSpPr>
        <p:spPr>
          <a:xfrm>
            <a:off x="895320" y="1065240"/>
            <a:ext cx="670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（ ）里填上合适的长度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文本框 9"/>
          <p:cNvSpPr/>
          <p:nvPr/>
        </p:nvSpPr>
        <p:spPr>
          <a:xfrm>
            <a:off x="285840" y="1798560"/>
            <a:ext cx="55101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飞机每小时飞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文本框 10"/>
          <p:cNvSpPr/>
          <p:nvPr/>
        </p:nvSpPr>
        <p:spPr>
          <a:xfrm>
            <a:off x="365040" y="2676600"/>
            <a:ext cx="55119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栋楼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11"/>
          <p:cNvSpPr/>
          <p:nvPr/>
        </p:nvSpPr>
        <p:spPr>
          <a:xfrm>
            <a:off x="293760" y="3666960"/>
            <a:ext cx="55101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张老师肩宽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12"/>
          <p:cNvSpPr/>
          <p:nvPr/>
        </p:nvSpPr>
        <p:spPr>
          <a:xfrm>
            <a:off x="365040" y="4911840"/>
            <a:ext cx="59151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北京到青岛的铁路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13"/>
          <p:cNvSpPr/>
          <p:nvPr/>
        </p:nvSpPr>
        <p:spPr>
          <a:xfrm>
            <a:off x="3735360" y="2041560"/>
            <a:ext cx="915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14"/>
          <p:cNvSpPr/>
          <p:nvPr/>
        </p:nvSpPr>
        <p:spPr>
          <a:xfrm>
            <a:off x="2487600" y="2976480"/>
            <a:ext cx="917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15"/>
          <p:cNvSpPr/>
          <p:nvPr/>
        </p:nvSpPr>
        <p:spPr>
          <a:xfrm>
            <a:off x="2817720" y="3909960"/>
            <a:ext cx="917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16"/>
          <p:cNvSpPr/>
          <p:nvPr/>
        </p:nvSpPr>
        <p:spPr>
          <a:xfrm>
            <a:off x="4809960" y="5235480"/>
            <a:ext cx="917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3"/>
          <p:cNvSpPr/>
          <p:nvPr/>
        </p:nvSpPr>
        <p:spPr>
          <a:xfrm>
            <a:off x="196920" y="1065240"/>
            <a:ext cx="680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43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45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6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8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9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0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1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2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文本框 3"/>
          <p:cNvSpPr/>
          <p:nvPr/>
        </p:nvSpPr>
        <p:spPr>
          <a:xfrm>
            <a:off x="689040" y="969840"/>
            <a:ext cx="3244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算一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4"/>
          <p:cNvSpPr/>
          <p:nvPr/>
        </p:nvSpPr>
        <p:spPr>
          <a:xfrm>
            <a:off x="593640" y="1617840"/>
            <a:ext cx="34862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）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文本框 5"/>
          <p:cNvSpPr/>
          <p:nvPr/>
        </p:nvSpPr>
        <p:spPr>
          <a:xfrm>
            <a:off x="668160" y="2320920"/>
            <a:ext cx="3922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6"/>
          <p:cNvSpPr/>
          <p:nvPr/>
        </p:nvSpPr>
        <p:spPr>
          <a:xfrm>
            <a:off x="668160" y="3054240"/>
            <a:ext cx="4040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500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）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13"/>
          <p:cNvSpPr/>
          <p:nvPr/>
        </p:nvSpPr>
        <p:spPr>
          <a:xfrm>
            <a:off x="668160" y="3787920"/>
            <a:ext cx="4570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3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）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文本框 14"/>
          <p:cNvSpPr/>
          <p:nvPr/>
        </p:nvSpPr>
        <p:spPr>
          <a:xfrm>
            <a:off x="762120" y="4683240"/>
            <a:ext cx="4572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）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文本框 15"/>
          <p:cNvSpPr/>
          <p:nvPr/>
        </p:nvSpPr>
        <p:spPr>
          <a:xfrm>
            <a:off x="2031840" y="1617840"/>
            <a:ext cx="1038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文本框 16"/>
          <p:cNvSpPr/>
          <p:nvPr/>
        </p:nvSpPr>
        <p:spPr>
          <a:xfrm>
            <a:off x="2451240" y="2320920"/>
            <a:ext cx="474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文本框 17"/>
          <p:cNvSpPr/>
          <p:nvPr/>
        </p:nvSpPr>
        <p:spPr>
          <a:xfrm>
            <a:off x="2811600" y="3054240"/>
            <a:ext cx="474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文本框 18"/>
          <p:cNvSpPr/>
          <p:nvPr/>
        </p:nvSpPr>
        <p:spPr>
          <a:xfrm>
            <a:off x="3381480" y="3787920"/>
            <a:ext cx="1058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文本框 19"/>
          <p:cNvSpPr/>
          <p:nvPr/>
        </p:nvSpPr>
        <p:spPr>
          <a:xfrm>
            <a:off x="3459240" y="4683240"/>
            <a:ext cx="474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文本框 3"/>
          <p:cNvSpPr/>
          <p:nvPr/>
        </p:nvSpPr>
        <p:spPr>
          <a:xfrm>
            <a:off x="100080" y="779400"/>
            <a:ext cx="680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66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68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9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1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2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3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4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组合 38"/>
          <p:cNvGrpSpPr/>
          <p:nvPr/>
        </p:nvGrpSpPr>
        <p:grpSpPr>
          <a:xfrm>
            <a:off x="4483080" y="519120"/>
            <a:ext cx="4428720" cy="3268800"/>
            <a:chOff x="4483080" y="519120"/>
            <a:chExt cx="4428720" cy="3268800"/>
          </a:xfrm>
        </p:grpSpPr>
        <p:pic>
          <p:nvPicPr>
            <p:cNvPr id="1277" name="图片 3" descr="{7181ZN~3VI7FFNK`FM[NNE"/>
            <p:cNvPicPr/>
            <p:nvPr/>
          </p:nvPicPr>
          <p:blipFill>
            <a:blip r:embed="rId1"/>
            <a:stretch/>
          </p:blipFill>
          <p:spPr>
            <a:xfrm>
              <a:off x="6171480" y="519120"/>
              <a:ext cx="897120" cy="7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图片 4" descr="F)R`RQFZWOC}]ZXDZQLGP7J"/>
            <p:cNvPicPr/>
            <p:nvPr/>
          </p:nvPicPr>
          <p:blipFill>
            <a:blip r:embed="rId2"/>
            <a:stretch/>
          </p:blipFill>
          <p:spPr>
            <a:xfrm>
              <a:off x="4534920" y="1780200"/>
              <a:ext cx="9194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图片 5" descr="4E%)GZI_A]UQ`}QW5QL_$92"/>
            <p:cNvPicPr/>
            <p:nvPr/>
          </p:nvPicPr>
          <p:blipFill>
            <a:blip r:embed="rId3"/>
            <a:stretch/>
          </p:blipFill>
          <p:spPr>
            <a:xfrm>
              <a:off x="7679520" y="1771200"/>
              <a:ext cx="83988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图片 6" descr="K[P~E6661Y96G)VJ{V7VVNJ"/>
            <p:cNvPicPr/>
            <p:nvPr/>
          </p:nvPicPr>
          <p:blipFill>
            <a:blip r:embed="rId4"/>
            <a:stretch/>
          </p:blipFill>
          <p:spPr>
            <a:xfrm>
              <a:off x="6361920" y="2929320"/>
              <a:ext cx="516960" cy="50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图片 8" descr="GOPHCXD(TR%NPW2%9_[JQ7V"/>
            <p:cNvPicPr/>
            <p:nvPr/>
          </p:nvPicPr>
          <p:blipFill>
            <a:blip r:embed="rId5"/>
            <a:stretch/>
          </p:blipFill>
          <p:spPr>
            <a:xfrm>
              <a:off x="6325560" y="1933920"/>
              <a:ext cx="552960" cy="3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2" name="直接连接符 11"/>
            <p:cNvSpPr/>
            <p:nvPr/>
          </p:nvSpPr>
          <p:spPr>
            <a:xfrm>
              <a:off x="6692760" y="1323000"/>
              <a:ext cx="0" cy="610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直接连接符 13"/>
            <p:cNvSpPr/>
            <p:nvPr/>
          </p:nvSpPr>
          <p:spPr>
            <a:xfrm>
              <a:off x="5560560" y="208728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直接连接符 15"/>
            <p:cNvSpPr/>
            <p:nvPr/>
          </p:nvSpPr>
          <p:spPr>
            <a:xfrm>
              <a:off x="5560560" y="217764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16"/>
            <p:cNvSpPr/>
            <p:nvPr/>
          </p:nvSpPr>
          <p:spPr>
            <a:xfrm>
              <a:off x="7068600" y="208800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直接连接符 17"/>
            <p:cNvSpPr/>
            <p:nvPr/>
          </p:nvSpPr>
          <p:spPr>
            <a:xfrm>
              <a:off x="7068600" y="217764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直接连接符 18"/>
            <p:cNvSpPr/>
            <p:nvPr/>
          </p:nvSpPr>
          <p:spPr>
            <a:xfrm>
              <a:off x="6602040" y="2314080"/>
              <a:ext cx="0" cy="610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直接连接符 19"/>
            <p:cNvSpPr/>
            <p:nvPr/>
          </p:nvSpPr>
          <p:spPr>
            <a:xfrm>
              <a:off x="6619680" y="1323000"/>
              <a:ext cx="0" cy="610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直接连接符 20"/>
            <p:cNvSpPr/>
            <p:nvPr/>
          </p:nvSpPr>
          <p:spPr>
            <a:xfrm>
              <a:off x="6692760" y="2318400"/>
              <a:ext cx="0" cy="610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文本框 21"/>
            <p:cNvSpPr/>
            <p:nvPr/>
          </p:nvSpPr>
          <p:spPr>
            <a:xfrm>
              <a:off x="7888320" y="2318400"/>
              <a:ext cx="102348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医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文本框 22"/>
            <p:cNvSpPr/>
            <p:nvPr/>
          </p:nvSpPr>
          <p:spPr>
            <a:xfrm>
              <a:off x="6325560" y="3542400"/>
              <a:ext cx="102348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商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文本框 23"/>
            <p:cNvSpPr/>
            <p:nvPr/>
          </p:nvSpPr>
          <p:spPr>
            <a:xfrm>
              <a:off x="4483080" y="2403000"/>
              <a:ext cx="102348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儿童乐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文本框 24"/>
            <p:cNvSpPr/>
            <p:nvPr/>
          </p:nvSpPr>
          <p:spPr>
            <a:xfrm>
              <a:off x="7163280" y="745920"/>
              <a:ext cx="102348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书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文本框 25"/>
            <p:cNvSpPr/>
            <p:nvPr/>
          </p:nvSpPr>
          <p:spPr>
            <a:xfrm>
              <a:off x="5883840" y="1459080"/>
              <a:ext cx="808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文本框 26"/>
            <p:cNvSpPr/>
            <p:nvPr/>
          </p:nvSpPr>
          <p:spPr>
            <a:xfrm>
              <a:off x="5491080" y="1787040"/>
              <a:ext cx="8704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文本框 27"/>
            <p:cNvSpPr/>
            <p:nvPr/>
          </p:nvSpPr>
          <p:spPr>
            <a:xfrm>
              <a:off x="5883840" y="2257920"/>
              <a:ext cx="57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学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文本框 28"/>
            <p:cNvSpPr/>
            <p:nvPr/>
          </p:nvSpPr>
          <p:spPr>
            <a:xfrm>
              <a:off x="6969600" y="1717920"/>
              <a:ext cx="808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3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文本框 35"/>
            <p:cNvSpPr/>
            <p:nvPr/>
          </p:nvSpPr>
          <p:spPr>
            <a:xfrm>
              <a:off x="6692760" y="2564280"/>
              <a:ext cx="8704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千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文本框 36"/>
          <p:cNvSpPr/>
          <p:nvPr/>
        </p:nvSpPr>
        <p:spPr>
          <a:xfrm>
            <a:off x="79200" y="1371600"/>
            <a:ext cx="3876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从儿童乐园到医院有多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37"/>
          <p:cNvSpPr/>
          <p:nvPr/>
        </p:nvSpPr>
        <p:spPr>
          <a:xfrm>
            <a:off x="0" y="3357720"/>
            <a:ext cx="49561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你还能提出哪些数学问题并解答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39"/>
          <p:cNvSpPr/>
          <p:nvPr/>
        </p:nvSpPr>
        <p:spPr>
          <a:xfrm>
            <a:off x="635040" y="1859040"/>
            <a:ext cx="2154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000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=3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文本框 40"/>
          <p:cNvSpPr/>
          <p:nvPr/>
        </p:nvSpPr>
        <p:spPr>
          <a:xfrm>
            <a:off x="698400" y="2341440"/>
            <a:ext cx="2154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+3=7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文本框 41"/>
          <p:cNvSpPr/>
          <p:nvPr/>
        </p:nvSpPr>
        <p:spPr>
          <a:xfrm>
            <a:off x="441360" y="3035160"/>
            <a:ext cx="4870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：从儿童乐园到医院有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42"/>
          <p:cNvSpPr/>
          <p:nvPr/>
        </p:nvSpPr>
        <p:spPr>
          <a:xfrm>
            <a:off x="425520" y="3975120"/>
            <a:ext cx="5186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案不唯一，如从商场到书店有多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文本框 43"/>
          <p:cNvSpPr/>
          <p:nvPr/>
        </p:nvSpPr>
        <p:spPr>
          <a:xfrm>
            <a:off x="441360" y="4622760"/>
            <a:ext cx="528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000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=1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千米    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+2=3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（千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文本框 44"/>
          <p:cNvSpPr/>
          <p:nvPr/>
        </p:nvSpPr>
        <p:spPr>
          <a:xfrm>
            <a:off x="425520" y="5207040"/>
            <a:ext cx="403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：从商场到书店有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文本框 3"/>
          <p:cNvSpPr/>
          <p:nvPr/>
        </p:nvSpPr>
        <p:spPr>
          <a:xfrm>
            <a:off x="100080" y="779400"/>
            <a:ext cx="680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09" name="圆角矩形 15" descr=""/>
            <p:cNvPicPr/>
            <p:nvPr/>
          </p:nvPicPr>
          <p:blipFill>
            <a:blip r:embed="rId6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11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椭圆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4" name="椭圆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5" name="圆角矩形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6" name="圆角矩形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7" name="圆角矩形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8" name="圆角矩形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文本框 3"/>
          <p:cNvSpPr/>
          <p:nvPr/>
        </p:nvSpPr>
        <p:spPr>
          <a:xfrm>
            <a:off x="731880" y="492120"/>
            <a:ext cx="8145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明家和小丽家都在学校的正南边，小明家离学校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，小丽家离学校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米，小明家距小丽家有多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0" name="图片 4" descr="]@P`{@U$K{A7A$9804YYMFT"/>
          <p:cNvPicPr/>
          <p:nvPr/>
        </p:nvPicPr>
        <p:blipFill>
          <a:blip r:embed="rId1"/>
          <a:stretch/>
        </p:blipFill>
        <p:spPr>
          <a:xfrm>
            <a:off x="3071880" y="2004840"/>
            <a:ext cx="974520" cy="1239840"/>
          </a:xfrm>
          <a:prstGeom prst="rect">
            <a:avLst/>
          </a:prstGeom>
          <a:ln w="0">
            <a:noFill/>
          </a:ln>
        </p:spPr>
      </p:pic>
      <p:pic>
        <p:nvPicPr>
          <p:cNvPr id="1321" name="图片 5" descr="_4`F[E$PX4I}_~SSZVJ7V4J"/>
          <p:cNvPicPr/>
          <p:nvPr/>
        </p:nvPicPr>
        <p:blipFill>
          <a:blip r:embed="rId2"/>
          <a:stretch/>
        </p:blipFill>
        <p:spPr>
          <a:xfrm>
            <a:off x="4132440" y="1940040"/>
            <a:ext cx="833400" cy="1263600"/>
          </a:xfrm>
          <a:prstGeom prst="rect">
            <a:avLst/>
          </a:prstGeom>
          <a:ln w="0">
            <a:noFill/>
          </a:ln>
        </p:spPr>
      </p:pic>
      <p:pic>
        <p:nvPicPr>
          <p:cNvPr id="1322" name="图片 8" descr="R6PEPN8X6D$W%S4WDXFKZF2"/>
          <p:cNvPicPr/>
          <p:nvPr/>
        </p:nvPicPr>
        <p:blipFill>
          <a:blip r:embed="rId3"/>
          <a:stretch/>
        </p:blipFill>
        <p:spPr>
          <a:xfrm>
            <a:off x="277920" y="2144880"/>
            <a:ext cx="3092400" cy="1427040"/>
          </a:xfrm>
          <a:prstGeom prst="rect">
            <a:avLst/>
          </a:prstGeom>
          <a:ln w="0">
            <a:noFill/>
          </a:ln>
        </p:spPr>
      </p:pic>
      <p:pic>
        <p:nvPicPr>
          <p:cNvPr id="1323" name="图片 6" descr="R6PEPN8X6D$W%S4WDXFKZF2"/>
          <p:cNvPicPr/>
          <p:nvPr/>
        </p:nvPicPr>
        <p:blipFill>
          <a:blip r:embed="rId4"/>
          <a:stretch/>
        </p:blipFill>
        <p:spPr>
          <a:xfrm flipH="1" rot="5400000">
            <a:off x="6033960" y="1050480"/>
            <a:ext cx="1386000" cy="3656160"/>
          </a:xfrm>
          <a:prstGeom prst="rect">
            <a:avLst/>
          </a:prstGeom>
          <a:ln w="0">
            <a:noFill/>
          </a:ln>
        </p:spPr>
      </p:pic>
      <p:sp>
        <p:nvSpPr>
          <p:cNvPr id="1324" name="文本框 9"/>
          <p:cNvSpPr/>
          <p:nvPr/>
        </p:nvSpPr>
        <p:spPr>
          <a:xfrm>
            <a:off x="561960" y="2289240"/>
            <a:ext cx="2224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选什么交通方式去学校比较合适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文本框 10"/>
          <p:cNvSpPr/>
          <p:nvPr/>
        </p:nvSpPr>
        <p:spPr>
          <a:xfrm>
            <a:off x="5711760" y="2289240"/>
            <a:ext cx="25718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我去小明家做客，选择什么交通方式好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文本框 11"/>
          <p:cNvSpPr/>
          <p:nvPr/>
        </p:nvSpPr>
        <p:spPr>
          <a:xfrm>
            <a:off x="2692440" y="320364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小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文本框 12"/>
          <p:cNvSpPr/>
          <p:nvPr/>
        </p:nvSpPr>
        <p:spPr>
          <a:xfrm>
            <a:off x="4132440" y="3244680"/>
            <a:ext cx="9950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小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文本框 13"/>
          <p:cNvSpPr/>
          <p:nvPr/>
        </p:nvSpPr>
        <p:spPr>
          <a:xfrm>
            <a:off x="731880" y="3949560"/>
            <a:ext cx="37940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千米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00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文本框 14"/>
          <p:cNvSpPr/>
          <p:nvPr/>
        </p:nvSpPr>
        <p:spPr>
          <a:xfrm>
            <a:off x="731880" y="4540320"/>
            <a:ext cx="3224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500-3000=50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组合 4"/>
          <p:cNvGrpSpPr/>
          <p:nvPr/>
        </p:nvGrpSpPr>
        <p:grpSpPr>
          <a:xfrm>
            <a:off x="731880" y="5035680"/>
            <a:ext cx="5092560" cy="1333080"/>
            <a:chOff x="731880" y="5035680"/>
            <a:chExt cx="5092560" cy="1333080"/>
          </a:xfrm>
        </p:grpSpPr>
        <p:sp>
          <p:nvSpPr>
            <p:cNvPr id="1331" name="文本框 15"/>
            <p:cNvSpPr/>
            <p:nvPr/>
          </p:nvSpPr>
          <p:spPr>
            <a:xfrm>
              <a:off x="731880" y="5035680"/>
              <a:ext cx="4166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答：小明家距小丽家</a:t>
              </a: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500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米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文本框 16"/>
            <p:cNvSpPr/>
            <p:nvPr/>
          </p:nvSpPr>
          <p:spPr>
            <a:xfrm>
              <a:off x="731880" y="5373360"/>
              <a:ext cx="50925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小明可以选择乘坐公交车去上学，小丽去小明家做客，可以选择步行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文本框 3"/>
          <p:cNvSpPr/>
          <p:nvPr/>
        </p:nvSpPr>
        <p:spPr>
          <a:xfrm>
            <a:off x="297000" y="590400"/>
            <a:ext cx="680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35" name="圆角矩形 15" descr=""/>
            <p:cNvPicPr/>
            <p:nvPr/>
          </p:nvPicPr>
          <p:blipFill>
            <a:blip r:embed="rId5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37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8" name="椭圆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9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0" name="椭圆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1" name="圆角矩形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2" name="圆角矩形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3" name="圆角矩形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4" name="圆角矩形 23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31"/>
          <p:cNvSpPr/>
          <p:nvPr/>
        </p:nvSpPr>
        <p:spPr>
          <a:xfrm>
            <a:off x="428760" y="928800"/>
            <a:ext cx="771516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2"/>
          <p:cNvSpPr/>
          <p:nvPr/>
        </p:nvSpPr>
        <p:spPr>
          <a:xfrm>
            <a:off x="571680" y="1074600"/>
            <a:ext cx="785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1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分米 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分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1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1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毫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4"/>
          <p:cNvSpPr/>
          <p:nvPr/>
        </p:nvSpPr>
        <p:spPr>
          <a:xfrm>
            <a:off x="285840" y="2022480"/>
            <a:ext cx="5500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在（     ）里填上合适的长度单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2" descr="D:\我的文档-桌面-收藏夹\桌面\447208f48cd5f3c4e12177943518_800_800.jpg"/>
          <p:cNvPicPr/>
          <p:nvPr/>
        </p:nvPicPr>
        <p:blipFill>
          <a:blip r:embed="rId8"/>
          <a:stretch/>
        </p:blipFill>
        <p:spPr>
          <a:xfrm>
            <a:off x="1000080" y="2428920"/>
            <a:ext cx="1655640" cy="1655640"/>
          </a:xfrm>
          <a:prstGeom prst="rect">
            <a:avLst/>
          </a:prstGeom>
          <a:ln w="0">
            <a:noFill/>
          </a:ln>
        </p:spPr>
      </p:pic>
      <p:grpSp>
        <p:nvGrpSpPr>
          <p:cNvPr id="1013" name="组合 7"/>
          <p:cNvGrpSpPr/>
          <p:nvPr/>
        </p:nvGrpSpPr>
        <p:grpSpPr>
          <a:xfrm>
            <a:off x="4286160" y="3143160"/>
            <a:ext cx="571680" cy="571680"/>
            <a:chOff x="4286160" y="3143160"/>
            <a:chExt cx="571680" cy="571680"/>
          </a:xfrm>
        </p:grpSpPr>
        <p:sp>
          <p:nvSpPr>
            <p:cNvPr id="1014" name="六边形 5"/>
            <p:cNvSpPr/>
            <p:nvPr/>
          </p:nvSpPr>
          <p:spPr>
            <a:xfrm>
              <a:off x="4286160" y="3143160"/>
              <a:ext cx="571680" cy="5716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cc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椭圆 6"/>
            <p:cNvSpPr/>
            <p:nvPr/>
          </p:nvSpPr>
          <p:spPr>
            <a:xfrm>
              <a:off x="4506120" y="3361320"/>
              <a:ext cx="133200" cy="177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直接连接符 9"/>
          <p:cNvSpPr/>
          <p:nvPr/>
        </p:nvSpPr>
        <p:spPr>
          <a:xfrm>
            <a:off x="4286160" y="342828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1"/>
          <p:cNvSpPr/>
          <p:nvPr/>
        </p:nvSpPr>
        <p:spPr>
          <a:xfrm>
            <a:off x="4857840" y="342828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8" name="直接箭头连接符 13"/>
          <p:cNvCxnSpPr/>
          <p:nvPr/>
        </p:nvCxnSpPr>
        <p:spPr>
          <a:xfrm>
            <a:off x="4286160" y="3857760"/>
            <a:ext cx="57240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sp>
        <p:nvSpPr>
          <p:cNvPr id="1019" name="直接连接符 16"/>
          <p:cNvSpPr/>
          <p:nvPr/>
        </p:nvSpPr>
        <p:spPr>
          <a:xfrm flipH="1">
            <a:off x="1928520" y="271476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9"/>
          <p:cNvSpPr/>
          <p:nvPr/>
        </p:nvSpPr>
        <p:spPr>
          <a:xfrm flipH="1">
            <a:off x="1857240" y="378612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1" name="直接箭头连接符 20"/>
          <p:cNvCxnSpPr/>
          <p:nvPr/>
        </p:nvCxnSpPr>
        <p:spPr>
          <a:xfrm flipH="1">
            <a:off x="2355480" y="2714400"/>
            <a:ext cx="2160" cy="1075320"/>
          </a:xfrm>
          <a:prstGeom prst="straightConnector1">
            <a:avLst/>
          </a:prstGeom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grpSp>
        <p:nvGrpSpPr>
          <p:cNvPr id="1022" name="组合 38"/>
          <p:cNvGrpSpPr/>
          <p:nvPr/>
        </p:nvGrpSpPr>
        <p:grpSpPr>
          <a:xfrm>
            <a:off x="6643800" y="2204640"/>
            <a:ext cx="1665360" cy="1724400"/>
            <a:chOff x="6643800" y="2204640"/>
            <a:chExt cx="1665360" cy="1724400"/>
          </a:xfrm>
        </p:grpSpPr>
        <p:pic>
          <p:nvPicPr>
            <p:cNvPr id="1023" name="Picture 4" descr="D:\我的文档-桌面-收藏夹\桌面\13093125177258.png"/>
            <p:cNvPicPr/>
            <p:nvPr/>
          </p:nvPicPr>
          <p:blipFill>
            <a:blip r:embed="rId9"/>
            <a:stretch/>
          </p:blipFill>
          <p:spPr>
            <a:xfrm rot="20667600">
              <a:off x="6812640" y="2356920"/>
              <a:ext cx="1331280" cy="141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4" name="组合 37"/>
            <p:cNvGrpSpPr/>
            <p:nvPr/>
          </p:nvGrpSpPr>
          <p:grpSpPr>
            <a:xfrm>
              <a:off x="6643800" y="2593800"/>
              <a:ext cx="1035000" cy="1335240"/>
              <a:chOff x="6643800" y="2593800"/>
              <a:chExt cx="1035000" cy="1335240"/>
            </a:xfrm>
          </p:grpSpPr>
          <p:sp>
            <p:nvSpPr>
              <p:cNvPr id="1025" name="直接连接符 26"/>
              <p:cNvSpPr/>
              <p:nvPr/>
            </p:nvSpPr>
            <p:spPr>
              <a:xfrm flipH="1">
                <a:off x="6643800" y="2593800"/>
                <a:ext cx="24624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直接连接符 29"/>
              <p:cNvSpPr/>
              <p:nvPr/>
            </p:nvSpPr>
            <p:spPr>
              <a:xfrm flipH="1">
                <a:off x="7432560" y="3620880"/>
                <a:ext cx="24624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7" name="直接箭头连接符 30"/>
              <p:cNvCxnSpPr/>
              <p:nvPr/>
            </p:nvCxnSpPr>
            <p:spPr>
              <a:xfrm>
                <a:off x="6791400" y="2747880"/>
                <a:ext cx="740160" cy="1079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headEnd len="med" type="arrow" w="med"/>
                <a:tailEnd len="med" type="arrow" w="med"/>
              </a:ln>
            </p:spPr>
          </p:cxnSp>
        </p:grpSp>
      </p:grpSp>
      <p:sp>
        <p:nvSpPr>
          <p:cNvPr id="1028" name="矩形 39"/>
          <p:cNvSpPr/>
          <p:nvPr/>
        </p:nvSpPr>
        <p:spPr>
          <a:xfrm>
            <a:off x="1000080" y="4071960"/>
            <a:ext cx="214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0"/>
          <p:cNvSpPr/>
          <p:nvPr/>
        </p:nvSpPr>
        <p:spPr>
          <a:xfrm>
            <a:off x="3643200" y="4071960"/>
            <a:ext cx="214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宽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41"/>
          <p:cNvSpPr/>
          <p:nvPr/>
        </p:nvSpPr>
        <p:spPr>
          <a:xfrm>
            <a:off x="6429240" y="4071960"/>
            <a:ext cx="214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42"/>
          <p:cNvSpPr/>
          <p:nvPr/>
        </p:nvSpPr>
        <p:spPr>
          <a:xfrm>
            <a:off x="1714680" y="3929040"/>
            <a:ext cx="11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分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43"/>
          <p:cNvSpPr/>
          <p:nvPr/>
        </p:nvSpPr>
        <p:spPr>
          <a:xfrm>
            <a:off x="4357800" y="3929040"/>
            <a:ext cx="11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毫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44"/>
          <p:cNvSpPr/>
          <p:nvPr/>
        </p:nvSpPr>
        <p:spPr>
          <a:xfrm>
            <a:off x="7286760" y="4000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5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37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5" name="矩形 45"/>
          <p:cNvSpPr/>
          <p:nvPr/>
        </p:nvSpPr>
        <p:spPr>
          <a:xfrm>
            <a:off x="441360" y="1305000"/>
            <a:ext cx="79344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）分米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毫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厘米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厘米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46"/>
          <p:cNvSpPr/>
          <p:nvPr/>
        </p:nvSpPr>
        <p:spPr>
          <a:xfrm>
            <a:off x="2598840" y="1471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47"/>
          <p:cNvSpPr/>
          <p:nvPr/>
        </p:nvSpPr>
        <p:spPr>
          <a:xfrm>
            <a:off x="2808360" y="215892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48"/>
          <p:cNvSpPr/>
          <p:nvPr/>
        </p:nvSpPr>
        <p:spPr>
          <a:xfrm>
            <a:off x="2108160" y="284472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49"/>
          <p:cNvSpPr/>
          <p:nvPr/>
        </p:nvSpPr>
        <p:spPr>
          <a:xfrm>
            <a:off x="2459160" y="3430440"/>
            <a:ext cx="78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1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53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4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5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6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1" name="TextBox 2"/>
          <p:cNvSpPr/>
          <p:nvPr/>
        </p:nvSpPr>
        <p:spPr>
          <a:xfrm>
            <a:off x="179280" y="1239840"/>
            <a:ext cx="6321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（   ）里填上合适的单位或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Picture 2" descr="D:\我的文档-桌面-收藏夹\桌面\蚂蚁.jpg"/>
          <p:cNvPicPr/>
          <p:nvPr/>
        </p:nvPicPr>
        <p:blipFill>
          <a:blip r:embed="rId8"/>
          <a:srcRect l="0" t="26153" r="6371" b="8465"/>
          <a:stretch/>
        </p:blipFill>
        <p:spPr>
          <a:xfrm>
            <a:off x="500040" y="2862360"/>
            <a:ext cx="1619280" cy="7142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D:\我的文档-桌面-收藏夹\桌面\8435e5dde71190ef72442173ce1b9d16fcfa60da副本.png"/>
          <p:cNvPicPr/>
          <p:nvPr/>
        </p:nvPicPr>
        <p:blipFill>
          <a:blip r:embed="rId9"/>
          <a:stretch/>
        </p:blipFill>
        <p:spPr>
          <a:xfrm rot="6279600">
            <a:off x="3188880" y="2027160"/>
            <a:ext cx="922680" cy="80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D:\我的文档-桌面-收藏夹\桌面\8435e5dde71190ef72442173ce1b9d16fcfa60da副本.png"/>
          <p:cNvPicPr/>
          <p:nvPr/>
        </p:nvPicPr>
        <p:blipFill>
          <a:blip r:embed="rId10"/>
          <a:stretch/>
        </p:blipFill>
        <p:spPr>
          <a:xfrm rot="6279600">
            <a:off x="4564080" y="2338560"/>
            <a:ext cx="922320" cy="807840"/>
          </a:xfrm>
          <a:prstGeom prst="rect">
            <a:avLst/>
          </a:prstGeom>
          <a:ln w="0">
            <a:noFill/>
          </a:ln>
        </p:spPr>
      </p:pic>
      <p:sp>
        <p:nvSpPr>
          <p:cNvPr id="1065" name="直接连接符 7"/>
          <p:cNvSpPr/>
          <p:nvPr/>
        </p:nvSpPr>
        <p:spPr>
          <a:xfrm>
            <a:off x="4017960" y="2362320"/>
            <a:ext cx="0" cy="1069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直接连接符 9"/>
          <p:cNvSpPr/>
          <p:nvPr/>
        </p:nvSpPr>
        <p:spPr>
          <a:xfrm>
            <a:off x="5436360" y="2647800"/>
            <a:ext cx="9720" cy="857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直接箭头连接符 12"/>
          <p:cNvCxnSpPr/>
          <p:nvPr/>
        </p:nvCxnSpPr>
        <p:spPr>
          <a:xfrm>
            <a:off x="4017600" y="3360240"/>
            <a:ext cx="1429560" cy="2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pic>
        <p:nvPicPr>
          <p:cNvPr id="1068" name="Picture 4" descr="D:\我的文档-桌面-收藏夹\桌面\7d45fb23a5a794f51ea2a855a4d8d5a3.jpg"/>
          <p:cNvPicPr/>
          <p:nvPr/>
        </p:nvPicPr>
        <p:blipFill>
          <a:blip r:embed="rId11"/>
          <a:stretch/>
        </p:blipFill>
        <p:spPr>
          <a:xfrm rot="1149600">
            <a:off x="7032600" y="1866600"/>
            <a:ext cx="1606680" cy="1606320"/>
          </a:xfrm>
          <a:prstGeom prst="rect">
            <a:avLst/>
          </a:prstGeom>
          <a:ln w="0">
            <a:noFill/>
          </a:ln>
        </p:spPr>
      </p:pic>
      <p:sp>
        <p:nvSpPr>
          <p:cNvPr id="1069" name="TextBox 19"/>
          <p:cNvSpPr/>
          <p:nvPr/>
        </p:nvSpPr>
        <p:spPr>
          <a:xfrm>
            <a:off x="428760" y="3576600"/>
            <a:ext cx="2357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Box 20"/>
          <p:cNvSpPr/>
          <p:nvPr/>
        </p:nvSpPr>
        <p:spPr>
          <a:xfrm>
            <a:off x="3286080" y="357660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一步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21"/>
          <p:cNvSpPr/>
          <p:nvPr/>
        </p:nvSpPr>
        <p:spPr>
          <a:xfrm>
            <a:off x="6500880" y="3576600"/>
            <a:ext cx="2571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厚（     ）毫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22"/>
          <p:cNvSpPr/>
          <p:nvPr/>
        </p:nvSpPr>
        <p:spPr>
          <a:xfrm>
            <a:off x="1571760" y="3576600"/>
            <a:ext cx="11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23"/>
          <p:cNvSpPr/>
          <p:nvPr/>
        </p:nvSpPr>
        <p:spPr>
          <a:xfrm>
            <a:off x="4714920" y="3576600"/>
            <a:ext cx="11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分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24"/>
          <p:cNvSpPr/>
          <p:nvPr/>
        </p:nvSpPr>
        <p:spPr>
          <a:xfrm>
            <a:off x="7000920" y="3576600"/>
            <a:ext cx="11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6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78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0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2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6" name="TextBox 25"/>
          <p:cNvSpPr/>
          <p:nvPr/>
        </p:nvSpPr>
        <p:spPr>
          <a:xfrm>
            <a:off x="179280" y="1270080"/>
            <a:ext cx="618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     里填上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椭圆 26"/>
          <p:cNvSpPr/>
          <p:nvPr/>
        </p:nvSpPr>
        <p:spPr>
          <a:xfrm>
            <a:off x="1143000" y="1339920"/>
            <a:ext cx="571680" cy="571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29"/>
          <p:cNvGrpSpPr/>
          <p:nvPr/>
        </p:nvGrpSpPr>
        <p:grpSpPr>
          <a:xfrm>
            <a:off x="285840" y="2276640"/>
            <a:ext cx="2571840" cy="642600"/>
            <a:chOff x="285840" y="2276640"/>
            <a:chExt cx="2571840" cy="642600"/>
          </a:xfrm>
        </p:grpSpPr>
        <p:sp>
          <p:nvSpPr>
            <p:cNvPr id="1089" name="TextBox 27"/>
            <p:cNvSpPr/>
            <p:nvPr/>
          </p:nvSpPr>
          <p:spPr>
            <a:xfrm>
              <a:off x="285840" y="2276640"/>
              <a:ext cx="257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米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毫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椭圆 28"/>
            <p:cNvSpPr/>
            <p:nvPr/>
          </p:nvSpPr>
          <p:spPr>
            <a:xfrm>
              <a:off x="1285920" y="2347920"/>
              <a:ext cx="571320" cy="571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组合 30"/>
          <p:cNvGrpSpPr/>
          <p:nvPr/>
        </p:nvGrpSpPr>
        <p:grpSpPr>
          <a:xfrm>
            <a:off x="3286080" y="2276640"/>
            <a:ext cx="2571840" cy="642600"/>
            <a:chOff x="3286080" y="2276640"/>
            <a:chExt cx="2571840" cy="642600"/>
          </a:xfrm>
        </p:grpSpPr>
        <p:sp>
          <p:nvSpPr>
            <p:cNvPr id="1092" name="TextBox 31"/>
            <p:cNvSpPr/>
            <p:nvPr/>
          </p:nvSpPr>
          <p:spPr>
            <a:xfrm>
              <a:off x="3286080" y="2276640"/>
              <a:ext cx="257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毫米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厘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椭圆 32"/>
            <p:cNvSpPr/>
            <p:nvPr/>
          </p:nvSpPr>
          <p:spPr>
            <a:xfrm>
              <a:off x="4286160" y="2347920"/>
              <a:ext cx="571320" cy="571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组合 33"/>
          <p:cNvGrpSpPr/>
          <p:nvPr/>
        </p:nvGrpSpPr>
        <p:grpSpPr>
          <a:xfrm>
            <a:off x="6286680" y="2276640"/>
            <a:ext cx="3000240" cy="642600"/>
            <a:chOff x="6286680" y="2276640"/>
            <a:chExt cx="3000240" cy="642600"/>
          </a:xfrm>
        </p:grpSpPr>
        <p:sp>
          <p:nvSpPr>
            <p:cNvPr id="1095" name="TextBox 34"/>
            <p:cNvSpPr/>
            <p:nvPr/>
          </p:nvSpPr>
          <p:spPr>
            <a:xfrm>
              <a:off x="6286680" y="2276640"/>
              <a:ext cx="300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厘米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毫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椭圆 35"/>
            <p:cNvSpPr/>
            <p:nvPr/>
          </p:nvSpPr>
          <p:spPr>
            <a:xfrm>
              <a:off x="7286760" y="2347920"/>
              <a:ext cx="666720" cy="571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组合 36"/>
          <p:cNvGrpSpPr/>
          <p:nvPr/>
        </p:nvGrpSpPr>
        <p:grpSpPr>
          <a:xfrm>
            <a:off x="142920" y="3133800"/>
            <a:ext cx="2571840" cy="642960"/>
            <a:chOff x="142920" y="3133800"/>
            <a:chExt cx="2571840" cy="642960"/>
          </a:xfrm>
        </p:grpSpPr>
        <p:sp>
          <p:nvSpPr>
            <p:cNvPr id="1098" name="TextBox 37"/>
            <p:cNvSpPr/>
            <p:nvPr/>
          </p:nvSpPr>
          <p:spPr>
            <a:xfrm>
              <a:off x="142920" y="3133800"/>
              <a:ext cx="25718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米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椭圆 38"/>
            <p:cNvSpPr/>
            <p:nvPr/>
          </p:nvSpPr>
          <p:spPr>
            <a:xfrm>
              <a:off x="1143000" y="3205080"/>
              <a:ext cx="571320" cy="571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组合 39"/>
          <p:cNvGrpSpPr/>
          <p:nvPr/>
        </p:nvGrpSpPr>
        <p:grpSpPr>
          <a:xfrm>
            <a:off x="3286080" y="3133800"/>
            <a:ext cx="2571840" cy="642960"/>
            <a:chOff x="3286080" y="3133800"/>
            <a:chExt cx="2571840" cy="642960"/>
          </a:xfrm>
        </p:grpSpPr>
        <p:sp>
          <p:nvSpPr>
            <p:cNvPr id="1101" name="TextBox 40"/>
            <p:cNvSpPr/>
            <p:nvPr/>
          </p:nvSpPr>
          <p:spPr>
            <a:xfrm>
              <a:off x="3286080" y="3133800"/>
              <a:ext cx="25718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毫米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米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椭圆 41"/>
            <p:cNvSpPr/>
            <p:nvPr/>
          </p:nvSpPr>
          <p:spPr>
            <a:xfrm>
              <a:off x="4286160" y="3205080"/>
              <a:ext cx="571320" cy="571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组合 42"/>
          <p:cNvGrpSpPr/>
          <p:nvPr/>
        </p:nvGrpSpPr>
        <p:grpSpPr>
          <a:xfrm>
            <a:off x="6286680" y="3133800"/>
            <a:ext cx="3000240" cy="642960"/>
            <a:chOff x="6286680" y="3133800"/>
            <a:chExt cx="3000240" cy="642960"/>
          </a:xfrm>
        </p:grpSpPr>
        <p:sp>
          <p:nvSpPr>
            <p:cNvPr id="1104" name="TextBox 43"/>
            <p:cNvSpPr/>
            <p:nvPr/>
          </p:nvSpPr>
          <p:spPr>
            <a:xfrm>
              <a:off x="6286680" y="3133800"/>
              <a:ext cx="30002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米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椭圆 44"/>
            <p:cNvSpPr/>
            <p:nvPr/>
          </p:nvSpPr>
          <p:spPr>
            <a:xfrm>
              <a:off x="7286760" y="3205080"/>
              <a:ext cx="666720" cy="571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TextBox 45"/>
          <p:cNvSpPr/>
          <p:nvPr/>
        </p:nvSpPr>
        <p:spPr>
          <a:xfrm>
            <a:off x="1285920" y="22766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宋体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46"/>
          <p:cNvSpPr/>
          <p:nvPr/>
        </p:nvSpPr>
        <p:spPr>
          <a:xfrm>
            <a:off x="4214880" y="22766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宋体"/>
              </a:rPr>
              <a:t>&l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Box 47"/>
          <p:cNvSpPr/>
          <p:nvPr/>
        </p:nvSpPr>
        <p:spPr>
          <a:xfrm>
            <a:off x="7286760" y="2347920"/>
            <a:ext cx="642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48"/>
          <p:cNvSpPr/>
          <p:nvPr/>
        </p:nvSpPr>
        <p:spPr>
          <a:xfrm>
            <a:off x="1136520" y="3133800"/>
            <a:ext cx="642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宋体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0"/>
          <p:cNvSpPr/>
          <p:nvPr/>
        </p:nvSpPr>
        <p:spPr>
          <a:xfrm>
            <a:off x="4214880" y="3133800"/>
            <a:ext cx="642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宋体"/>
              </a:rPr>
              <a:t>&l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51"/>
          <p:cNvSpPr/>
          <p:nvPr/>
        </p:nvSpPr>
        <p:spPr>
          <a:xfrm>
            <a:off x="7286760" y="3133800"/>
            <a:ext cx="642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宋体"/>
              </a:rPr>
              <a:t>&l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2"/>
          <p:cNvSpPr/>
          <p:nvPr/>
        </p:nvSpPr>
        <p:spPr>
          <a:xfrm>
            <a:off x="214200" y="938160"/>
            <a:ext cx="8715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一根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的木料，锯成同样长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做凳子腿。这个凳子的高大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2" descr="D:\我的文档-桌面-收藏夹\桌面\Redocn_2012071716233222.jpg"/>
          <p:cNvPicPr/>
          <p:nvPr/>
        </p:nvPicPr>
        <p:blipFill>
          <a:blip r:embed="rId1"/>
          <a:stretch/>
        </p:blipFill>
        <p:spPr>
          <a:xfrm>
            <a:off x="6215040" y="2286000"/>
            <a:ext cx="2185920" cy="2484360"/>
          </a:xfrm>
          <a:prstGeom prst="rect">
            <a:avLst/>
          </a:prstGeom>
          <a:ln w="0">
            <a:noFill/>
          </a:ln>
        </p:spPr>
      </p:pic>
      <p:sp>
        <p:nvSpPr>
          <p:cNvPr id="1114" name="TextBox 4"/>
          <p:cNvSpPr/>
          <p:nvPr/>
        </p:nvSpPr>
        <p:spPr>
          <a:xfrm>
            <a:off x="857160" y="2571840"/>
            <a:ext cx="47865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分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这个凳子的高大约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6" name="圆角矩形 1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18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9" name="椭圆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椭圆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2" descr="D:\我的文档-桌面-收藏夹\桌面\1.tif"/>
          <p:cNvPicPr/>
          <p:nvPr/>
        </p:nvPicPr>
        <p:blipFill>
          <a:blip r:embed="rId1"/>
          <a:stretch/>
        </p:blipFill>
        <p:spPr>
          <a:xfrm>
            <a:off x="1801800" y="1879560"/>
            <a:ext cx="5199120" cy="1227240"/>
          </a:xfrm>
          <a:prstGeom prst="rect">
            <a:avLst/>
          </a:prstGeom>
          <a:ln w="0">
            <a:noFill/>
          </a:ln>
        </p:spPr>
      </p:pic>
      <p:grpSp>
        <p:nvGrpSpPr>
          <p:cNvPr id="1127" name="组合 2"/>
          <p:cNvGrpSpPr/>
          <p:nvPr/>
        </p:nvGrpSpPr>
        <p:grpSpPr>
          <a:xfrm>
            <a:off x="12600" y="114480"/>
            <a:ext cx="3245040" cy="525240"/>
            <a:chOff x="12600" y="114480"/>
            <a:chExt cx="3245040" cy="525240"/>
          </a:xfrm>
        </p:grpSpPr>
        <p:pic>
          <p:nvPicPr>
            <p:cNvPr id="1128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63080" y="114480"/>
              <a:ext cx="309456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9" name="组合 4"/>
            <p:cNvGrpSpPr/>
            <p:nvPr/>
          </p:nvGrpSpPr>
          <p:grpSpPr>
            <a:xfrm>
              <a:off x="12600" y="210240"/>
              <a:ext cx="430200" cy="271440"/>
              <a:chOff x="12600" y="210240"/>
              <a:chExt cx="430200" cy="271440"/>
            </a:xfrm>
          </p:grpSpPr>
          <p:sp>
            <p:nvSpPr>
              <p:cNvPr id="1130" name="椭圆 3"/>
              <p:cNvSpPr/>
              <p:nvPr/>
            </p:nvSpPr>
            <p:spPr>
              <a:xfrm rot="16200000">
                <a:off x="255600" y="3726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1" name="椭圆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30760" y="33660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椭圆 29"/>
              <p:cNvSpPr/>
              <p:nvPr/>
            </p:nvSpPr>
            <p:spPr>
              <a:xfrm rot="16200000">
                <a:off x="255600" y="24696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3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30760" y="2246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12600" y="35244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00" y="32472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2600" y="23796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00" y="210240"/>
                <a:ext cx="356760" cy="9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9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41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2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4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49" name="Picture 2" descr="D:\我的文档-桌面-收藏夹\桌面\走路.jpg"/>
          <p:cNvPicPr/>
          <p:nvPr/>
        </p:nvPicPr>
        <p:blipFill>
          <a:blip r:embed="rId8"/>
          <a:stretch/>
        </p:blipFill>
        <p:spPr>
          <a:xfrm>
            <a:off x="928800" y="2006640"/>
            <a:ext cx="922320" cy="154764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3" descr="D:\我的文档-桌面-收藏夹\桌面\汽车.jpg"/>
          <p:cNvPicPr/>
          <p:nvPr/>
        </p:nvPicPr>
        <p:blipFill>
          <a:blip r:embed="rId9"/>
          <a:stretch/>
        </p:blipFill>
        <p:spPr>
          <a:xfrm>
            <a:off x="4173480" y="2292480"/>
            <a:ext cx="1398600" cy="124128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4" descr="D:\我的文档-桌面-收藏夹\桌面\小轿车.jpg"/>
          <p:cNvPicPr/>
          <p:nvPr/>
        </p:nvPicPr>
        <p:blipFill>
          <a:blip r:embed="rId10"/>
          <a:stretch/>
        </p:blipFill>
        <p:spPr>
          <a:xfrm>
            <a:off x="6769080" y="2685960"/>
            <a:ext cx="2089080" cy="912960"/>
          </a:xfrm>
          <a:prstGeom prst="rect">
            <a:avLst/>
          </a:prstGeom>
          <a:ln w="0">
            <a:noFill/>
          </a:ln>
        </p:spPr>
      </p:pic>
      <p:sp>
        <p:nvSpPr>
          <p:cNvPr id="1152" name="TextBox 6"/>
          <p:cNvSpPr/>
          <p:nvPr/>
        </p:nvSpPr>
        <p:spPr>
          <a:xfrm>
            <a:off x="357120" y="4506840"/>
            <a:ext cx="3000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秒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分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24"/>
          <p:cNvSpPr/>
          <p:nvPr/>
        </p:nvSpPr>
        <p:spPr>
          <a:xfrm>
            <a:off x="1214280" y="3578400"/>
            <a:ext cx="571680" cy="11430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12"/>
          <p:cNvSpPr/>
          <p:nvPr/>
        </p:nvSpPr>
        <p:spPr>
          <a:xfrm>
            <a:off x="3714840" y="4506840"/>
            <a:ext cx="2714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秒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分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直接连接符 25"/>
          <p:cNvSpPr/>
          <p:nvPr/>
        </p:nvSpPr>
        <p:spPr>
          <a:xfrm flipH="1">
            <a:off x="4785840" y="3578400"/>
            <a:ext cx="142920" cy="10000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5"/>
          <p:cNvSpPr/>
          <p:nvPr/>
        </p:nvSpPr>
        <p:spPr>
          <a:xfrm>
            <a:off x="6572160" y="4506840"/>
            <a:ext cx="2571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秒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分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直接连接符 26"/>
          <p:cNvSpPr/>
          <p:nvPr/>
        </p:nvSpPr>
        <p:spPr>
          <a:xfrm flipH="1">
            <a:off x="7643520" y="3649680"/>
            <a:ext cx="142920" cy="10000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Box 2"/>
          <p:cNvSpPr/>
          <p:nvPr/>
        </p:nvSpPr>
        <p:spPr>
          <a:xfrm>
            <a:off x="214200" y="816120"/>
            <a:ext cx="8929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米需要多长时间？把出行方式和相应的时间连接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0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62" name="椭圆 1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3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4" name="椭圆 1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圆角矩形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圆角矩形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0" name="TextBox 17"/>
          <p:cNvSpPr/>
          <p:nvPr/>
        </p:nvSpPr>
        <p:spPr>
          <a:xfrm>
            <a:off x="0" y="1085760"/>
            <a:ext cx="9204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游泳池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，如果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米，要游多少个这样的长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18"/>
          <p:cNvSpPr/>
          <p:nvPr/>
        </p:nvSpPr>
        <p:spPr>
          <a:xfrm>
            <a:off x="2855880" y="2550960"/>
            <a:ext cx="1714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30:28Z</dcterms:created>
  <dc:creator/>
  <dc:description/>
  <dc:language>en-US</dc:language>
  <cp:lastModifiedBy>万润仪器贸易公司</cp:lastModifiedBy>
  <dcterms:modified xsi:type="dcterms:W3CDTF">2020-08-21T01:17:39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